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449-95CC-414B-B4B2-F6EEF5F5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FFA-B19F-4BFD-B816-574B3DAE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F44-A7EF-48CA-B8B4-83C1E793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E23-4108-4A22-8383-F0064B5B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558-6677-4149-B5AA-351255F2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B8B-C579-4881-9A0A-6526015D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7D9-4E88-4BB1-A504-9D177EB5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45B-E875-4B35-8C29-516D5843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C32-93EC-4A14-B6C2-712893B6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3CB-880B-4112-9856-E651CA36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F29-6AB4-47C0-8D23-B4BE6A5E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A15-2C56-44AF-B7AD-161D3920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9722-8444-44E2-961B-7EDF13D8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lum contrast="6000"/>
            <a:alphaModFix amt="98000"/>
          </a:blip>
          <a:stretch/>
        </p:blipFill>
        <p:spPr>
          <a:xfrm>
            <a:off x="5181480" y="1752480"/>
            <a:ext cx="1440000" cy="14400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3b2</cp:lastModifiedBy>
  <dcterms:modified xsi:type="dcterms:W3CDTF">2007-05-03T02:25:55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